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5033-4618-40E2-8D13-B3F6E499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653-A018-4AF7-BB70-E0D8B8EA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636-7ED7-4D5A-9619-B23A89DC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88C-6883-4798-AA3B-0EED7A7C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179-4852-4581-989A-B6BBFDC0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BCD-0C34-4EB2-BFA7-2FA9D314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B31-8666-45C3-870C-08870C2C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ABDA-CECB-4A06-9ED9-4C725E60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D99-9474-475F-9745-0D8D9596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31A2-E428-4E12-A55B-893FB6FD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ACDF-EFE8-4133-886A-2D8CDFE6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C00-9CC1-47CA-8251-E8516927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8FF8-56A7-4AE5-B875-6184F4A78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chool-wires.wikispaces.com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 Gall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students will LOVE to see photographs on your pa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“Home”to return to your page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33720" y="259092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the “tag” where you want your photo gall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5943600" y="2590920"/>
            <a:ext cx="1295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2819520"/>
            <a:ext cx="99072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return to the wik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Tools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3080" y="2055960"/>
            <a:ext cx="384480" cy="384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3429000" y="2362320"/>
            <a:ext cx="1828800" cy="21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Photo Galleries” from the drop down 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71800" y="2895480"/>
            <a:ext cx="11430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New Photo Galler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936800"/>
            <a:ext cx="9144000" cy="4921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28800" y="3048120"/>
            <a:ext cx="18288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gallery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click “S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396252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5943600"/>
            <a:ext cx="6858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“Photo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00800" y="4114800"/>
            <a:ext cx="9144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pload photos individually, click “Upload Photos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pload a folder of photos, click “Batch Upload Photos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Click “Finish” after uploading photos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38080" y="3124080"/>
            <a:ext cx="106704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962160" y="21337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“Tag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467480" y="4038480"/>
            <a:ext cx="4572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 the “Tag” then click “OK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ight clic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52280" y="1936800"/>
            <a:ext cx="9296280" cy="4921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H="1" flipV="1">
            <a:off x="1981080" y="3352680"/>
            <a:ext cx="2438640" cy="1524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3:47:44Z</dcterms:created>
  <dc:creator>%$#@1</dc:creator>
  <dc:description/>
  <dc:language>en-US</dc:language>
  <cp:lastModifiedBy>%$#@1</cp:lastModifiedBy>
  <dcterms:modified xsi:type="dcterms:W3CDTF">2010-04-27T03:47:48Z</dcterms:modified>
  <cp:revision>1</cp:revision>
  <dc:subject/>
  <dc:title>Photo Gallery</dc:title>
</cp:coreProperties>
</file>